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512-B3A8-4F72-8530-D3C1C35F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167-6137-42A7-8D1A-821DAB7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199-4FFC-401C-9F77-9EC58750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B34-2B3B-448A-BEC1-5BA1E2D5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E280-A3E0-4DD6-92D2-443FCF0A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95A-31B0-411E-8577-5E26AF45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A8C2-B99E-4E65-A72D-A0F62C47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341C-D4F9-40E1-A1E0-32192D8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98F-0DFA-416F-AF85-1E682F7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9820-D84A-414B-88A1-FB6C6C41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0A0E-A6D9-4713-AA94-8343F90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AE8-BE8C-499B-8749-EBF04A82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1AF-76DF-4B4D-BCA9-8E447BE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2F1D-1498-4598-A5E8-CF69070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593-F50F-4C64-BE23-3383B86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5E71-529C-4499-87F9-3B48BA33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2AC-F9EE-4134-9353-A5A9F96E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68B-CCA8-4DB3-8119-20C277B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CB5-5923-4F56-93FA-C31A945C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110-B211-4C54-B977-6B6916A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BEA-09BF-44E4-A678-4CC09914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FAE-EAE6-4610-B6AF-FD324F9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67-3150-4B86-83BE-8047153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C1F-B452-4DC0-9440-13D8D45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DFE-4A52-4055-A426-619B6673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605-7450-4396-AC14-9BFF9144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ize Limit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3581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are cells so smal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http://acsbiology.info/images/early_microscope_cartoon.jpg"/>
          <p:cNvPicPr/>
          <p:nvPr/>
        </p:nvPicPr>
        <p:blipFill>
          <a:blip r:embed="rId1"/>
          <a:stretch/>
        </p:blipFill>
        <p:spPr>
          <a:xfrm>
            <a:off x="4648320" y="1052640"/>
            <a:ext cx="40384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e Surface Area is also important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face are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ill determine the exchange of materials between the cell and its enviro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gger cells will metabolise m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they will need more surface to support that metabo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 the sites of metabolism in bigger cells will be further from the surface of the c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is is a problem then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gger cells have a greater metabolism than smaller ce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bigger cells have 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portionall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urface for ex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to increase surface area with increasing si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the surface area of the cell through different sha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23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Villi in the Small Intesti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3" descr="D:\Users\09106826\Desktop\GP2134.jpg"/>
          <p:cNvPicPr/>
          <p:nvPr/>
        </p:nvPicPr>
        <p:blipFill>
          <a:blip r:embed="rId1"/>
          <a:stretch/>
        </p:blipFill>
        <p:spPr>
          <a:xfrm>
            <a:off x="380880" y="1828800"/>
            <a:ext cx="245916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Users\09106826\Desktop\image004.jpg"/>
          <p:cNvPicPr/>
          <p:nvPr/>
        </p:nvPicPr>
        <p:blipFill>
          <a:blip r:embed="rId2"/>
          <a:stretch/>
        </p:blipFill>
        <p:spPr>
          <a:xfrm>
            <a:off x="5867280" y="1768320"/>
            <a:ext cx="3048120" cy="2492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Users\09106826\Desktop\P5200043-LM_of_villi_in_small_intestine-SPL.jpg"/>
          <p:cNvPicPr/>
          <p:nvPr/>
        </p:nvPicPr>
        <p:blipFill>
          <a:blip r:embed="rId3"/>
          <a:stretch/>
        </p:blipFill>
        <p:spPr>
          <a:xfrm>
            <a:off x="3200400" y="3016080"/>
            <a:ext cx="2484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issues and Diff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issues are a collection of cells that function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issues need a way for diffusion to occur to al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2" descr="D:\Users\09106826\Desktop\liverlobule.jpg"/>
          <p:cNvPicPr/>
          <p:nvPr/>
        </p:nvPicPr>
        <p:blipFill>
          <a:blip r:embed="rId1"/>
          <a:stretch/>
        </p:blipFill>
        <p:spPr>
          <a:xfrm>
            <a:off x="4419720" y="1981080"/>
            <a:ext cx="4510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ells are between 2µm and 200µ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icrometer is 1 millionth of a meter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o small to be seen with naked ey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stained blood smear"/>
          <p:cNvPicPr/>
          <p:nvPr/>
        </p:nvPicPr>
        <p:blipFill>
          <a:blip r:embed="rId1"/>
          <a:stretch/>
        </p:blipFill>
        <p:spPr>
          <a:xfrm>
            <a:off x="380880" y="685800"/>
            <a:ext cx="409284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onion_epidermal_cells"/>
          <p:cNvPicPr/>
          <p:nvPr/>
        </p:nvPicPr>
        <p:blipFill>
          <a:blip r:embed="rId2"/>
          <a:stretch/>
        </p:blipFill>
        <p:spPr>
          <a:xfrm>
            <a:off x="457200" y="3824280"/>
            <a:ext cx="3476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can’t organisms be one big giant cell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043080" y="2514600"/>
            <a:ext cx="4762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imits cell si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ement from higher concentration to lower concen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rger the distance, slower the diffusion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ell 20 cm would requi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month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nutrients to get to the cent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er cell size allows the cell to be more effic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bone marrow"/>
          <p:cNvPicPr/>
          <p:nvPr/>
        </p:nvPicPr>
        <p:blipFill>
          <a:blip r:embed="rId1"/>
          <a:stretch/>
        </p:blipFill>
        <p:spPr>
          <a:xfrm>
            <a:off x="228600" y="2438280"/>
            <a:ext cx="3925800" cy="2914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267080" y="1752480"/>
            <a:ext cx="4300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NA limits cell s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r cells need more DNA. Needs more of every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cell was very large, there would not be enough DNA to support the cel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cells have just one nucle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Surface area to volume ratio"/>
          <p:cNvPicPr/>
          <p:nvPr/>
        </p:nvPicPr>
        <p:blipFill>
          <a:blip r:embed="rId1"/>
          <a:stretch/>
        </p:blipFill>
        <p:spPr>
          <a:xfrm>
            <a:off x="1195560" y="1752480"/>
            <a:ext cx="6743520" cy="426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838080" y="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increase more rapidly than surface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size doubles, 8x as much volume, but only 4x as much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ould need 8x more nutrients and will have 8x more waste to rem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E.coli were left unreglated, it could engulf the Earth in one day because it doubles in volume every 30 minutes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if too big is a problem, what’s the solution? Cells divide before they become too bi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of cell division is called mito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e Volume of Cell is Importa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etermines the amount metabolism in the cytopla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tabolism will requir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precurs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tabolism will result in th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secre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excretory produ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6:24:45Z</dcterms:created>
  <dc:creator>rick</dc:creator>
  <dc:description/>
  <dc:language>en-US</dc:language>
  <cp:lastModifiedBy>Shelley Hatch</cp:lastModifiedBy>
  <dcterms:modified xsi:type="dcterms:W3CDTF">2012-07-31T23:56:26Z</dcterms:modified>
  <cp:revision>10</cp:revision>
  <dc:subject/>
  <dc:title>Cell Size Limitations</dc:title>
</cp:coreProperties>
</file>